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3.jpeg" ContentType="image/jpeg"/>
  <Override PartName="/ppt/media/image12.png" ContentType="image/png"/>
  <Override PartName="/ppt/media/image4.png" ContentType="image/png"/>
  <Override PartName="/ppt/media/image5.jpeg" ContentType="image/jpeg"/>
  <Override PartName="/ppt/media/image19.jpeg" ContentType="image/jpeg"/>
  <Override PartName="/ppt/media/image11.png" ContentType="image/png"/>
  <Override PartName="/ppt/media/image6.png" ContentType="image/png"/>
  <Override PartName="/ppt/media/image7.png" ContentType="image/png"/>
  <Override PartName="/ppt/media/image22.jpeg" ContentType="image/jpeg"/>
  <Override PartName="/ppt/media/image9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2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applause.wav" ContentType="audio/x-wav"/>
  <Override PartName="/ppt/media/image27.jpeg" ContentType="image/jpeg"/>
  <Override PartName="/ppt/media/image14.png" ContentType="image/png"/>
  <Override PartName="/ppt/media/image24.jpeg" ContentType="image/jpeg"/>
  <Override PartName="/ppt/media/image16.png" ContentType="image/png"/>
  <Override PartName="/ppt/media/image17.png" ContentType="image/png"/>
  <Override PartName="/ppt/media/image15.png" ContentType="image/png"/>
  <Override PartName="/ppt/media/image18.jpeg" ContentType="image/jpeg"/>
  <Override PartName="/ppt/media/image29.png" ContentType="image/png"/>
  <Override PartName="/ppt/media/image2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5AF5A-0F8A-496B-8928-EE9D293B5AC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ergence of the Animal Kingd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“Rise of the Chordate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lum Chor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ding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phylum Vertebrata 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ergence of the Animal Kingd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“Rise of the Chordate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lum Chor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ding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phylum Vertebrata 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p 33 – Rise of the Mam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 of a Mammal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oeothermic – meaning that mammals produce their own body he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mmary tissue - for the production of Mil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r Follicles - for the production of H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ly, internal fertilization and harboring of young, however, this is only a generality because not all young are “cooked” to term intern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p 33 – Rise of the Mam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 of a Mammal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oeothermic – meaning that mammals produce their own body he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mmary tissue - for the production of Mil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r Follicles - for the production of H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ly, internal fertilization and harboring of young, however, this is only a generality because not all young are “cooked” to term intern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otremes – an Order of Class Mammal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otre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. The Platypus, which has a BILL, lays EGGS, but still has mammary glands and produces MILK for young.  This suggests a relationship between REPTILES, BIRDS and mammals.  Imagine tha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otremes – an Order of Class Mammal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otre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. The Platypus, which has a BILL, lays EGGS, but still has mammary glands and produces MILK for young.  This suggests a relationship between REPTILES, BIRDS and mammals.  Imagine tha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sup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. The Kangaroo, which is a non-placental mammal.  Here, the development of the young is very complex, and a baby kangaroo is born very “uncooked”, and must crawl into the mother’s pouch and latch onto a nipple to receive milk to continue development.  You might say, baby Kangaroos or “Joey’s” get a womb with a view 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sup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. The Kangaroo, which is a non-placental mammal.  Here, the development of the young is very complex, and a baby kangaroo is born very “uncooked”, and must crawl into the mother’s pouch and latch onto a nipple to receive milk to continue development.  You might say, baby Kangaroos or “Joey’s” get a womb with a view 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angaroo Bi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7 Wee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angaroo Bi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7 Wee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cental Mam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. You – well if you’re female, anyway.  Internal Fertilization development of young to a highly Advanced stag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cental Mam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. You – well if you’re female, anyway.  Internal Fertilization development of young to a highly Advanced stag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Placenta is K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Placenta is K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Mammals, all the Major Body Systems are online and advanc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Mammals, all the Major Body Systems are online and advanc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keletal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keletal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uscular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uscular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dvanced Circulatory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dvanced Circulatory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rdates include the follow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t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phib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m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rdates include the follow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t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phib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m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piratory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piratory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rvous System is online and advance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rvous System is online and advance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retory System – ooo look, Kidney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retory System – ooo look, Kidney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ocrine System – Controls you Horm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ocrine System – Controls you Horm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s of Mammals in the Simpsons 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s of Mammals in the Simpsons 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tly, we can Learn Important Lessons from Mammals like Ho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tly, we can Learn Important Lessons from Mammals like Ho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ord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 character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ochord - sup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st-anal t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aryngeal gill sl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rsal hollow nerve co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ord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 character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ochord - sup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st-anal t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aryngeal gill sl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rsal hollow nerve co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ordate Character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ordate Character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lls in Humans! – check it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lls in Humans! – check it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nicates are Chordate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a Squi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onge like - filter fee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va free swimming,  bilateral with all Chordate tra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nicates are Chordate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a Squi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onge like - filter fee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va free swimming,  bilateral with all Chordate tra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cets (a primitive fish like organism) closely resembles the idealized chord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otochord, dorsal nerve cord, numerous gill slits, and post-anal tail all persist in the adul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Pearson Education, Inc., publishing as Benjamin Cumm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cets (a primitive fish like organism) closely resembles the idealized chord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otochord, dorsal nerve cord, numerous gill slits, and post-anal tail all persist in the adul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Pearson Education, Inc., publishing as Benjamin Cumm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togency Recapituates Evolution”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olution Playing out in Fetus…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ll these Chordates (birds, mammals, reptiles, fish, hav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ikingly simila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bryonic Developm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togency Recapituates Evolution”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olution Playing out in Fetus…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ll these Chordates (birds, mammals, reptiles, fish, hav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ikingly simila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bryonic Developm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9022-9EE7-4916-A7E2-3176DA070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6FDB-99B7-4FD6-854C-05A2626E0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3AE8-D5D2-4B33-9D56-551E2C4E5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AFD9-CDEC-43B1-921A-52CEEF014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6DD0-01EA-4A48-A722-64E5ABEEA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307D-08FD-4C37-8CAF-056AC851D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4886-2C8D-48DC-BE8A-CA40EE540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FF85-51FA-4A3B-9FE8-80E191894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6D80-C826-427E-87D0-4D9E56A4E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2E3A-449C-44FC-8DBB-FD52A8783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5ABF-5572-4F95-BFC6-5EE87A83C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3E30-94B6-41D4-9483-A91EA59D6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E95AA-63E9-4DC9-87E7-3D19C571E9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homer_dead.wav" TargetMode="External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Emergence of the Animal Kingd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Or “Rise of the Chordate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hylum Chor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eading 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ubphylum Vertebrata </a:t>
            </a:r>
            <a:r>
              <a:rPr b="1" lang="en-US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Chp 33 – Rise of the Mamm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of a Mamm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Homoeothermi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meaning that mammal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oduce their own body he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Mammary tissu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for the production of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il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9900"/>
                </a:solidFill>
                <a:uFillTx/>
                <a:latin typeface="Arial"/>
              </a:rPr>
              <a:t>Hair Follic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for the production of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ly, </a:t>
            </a:r>
            <a:r>
              <a:rPr b="1" lang="en-US" sz="3200" spc="-1" strike="noStrike" u="sng">
                <a:solidFill>
                  <a:srgbClr val="009900"/>
                </a:solidFill>
                <a:uFillTx/>
                <a:latin typeface="Arial"/>
              </a:rPr>
              <a:t>internal fertiliz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harboring of young, however, this is only a generality becaus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ot all young are “cooked” to term internal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onotremes – an Order of Class Mammal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"/>
          <p:cNvPicPr/>
          <p:nvPr/>
        </p:nvPicPr>
        <p:blipFill>
          <a:blip r:embed="rId1"/>
          <a:stretch/>
        </p:blipFill>
        <p:spPr>
          <a:xfrm>
            <a:off x="0" y="914400"/>
            <a:ext cx="4800600" cy="31939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7" descr=""/>
          <p:cNvPicPr/>
          <p:nvPr/>
        </p:nvPicPr>
        <p:blipFill>
          <a:blip r:embed="rId2"/>
          <a:stretch/>
        </p:blipFill>
        <p:spPr>
          <a:xfrm>
            <a:off x="4876920" y="1295280"/>
            <a:ext cx="4038480" cy="2116080"/>
          </a:xfrm>
          <a:prstGeom prst="rect">
            <a:avLst/>
          </a:prstGeom>
          <a:ln w="0">
            <a:noFill/>
          </a:ln>
        </p:spPr>
      </p:pic>
      <p:sp>
        <p:nvSpPr>
          <p:cNvPr id="72" name="Text Box 10"/>
          <p:cNvSpPr/>
          <p:nvPr/>
        </p:nvSpPr>
        <p:spPr>
          <a:xfrm>
            <a:off x="228600" y="4114800"/>
            <a:ext cx="891540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notre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g. The Platypus, which has 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IL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lay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GG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but still has mammary glands and produce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IL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or young.  This suggests a relationship betwee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EPTIL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IRD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mammals.  Imagine tha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86200" y="228240"/>
            <a:ext cx="5486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sup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0" y="2971440"/>
            <a:ext cx="9144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g. The Kangaroo, which is a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on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cental mammal.  Here, the development of the young is very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omple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nd a baby kangaroo is born very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uncooked”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must crawl into the mother’s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ouc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latch onto a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ipp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receiv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il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continue development.  You might say, baby Kangaroos or “Joey’s” get a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womb with a vie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4724280" cy="29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angaroo Bir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0" y="838080"/>
            <a:ext cx="3200400" cy="2413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"/>
          <p:cNvPicPr/>
          <p:nvPr/>
        </p:nvPicPr>
        <p:blipFill>
          <a:blip r:embed="rId2"/>
          <a:stretch/>
        </p:blipFill>
        <p:spPr>
          <a:xfrm>
            <a:off x="3200400" y="838080"/>
            <a:ext cx="3200400" cy="23767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8" descr=""/>
          <p:cNvPicPr/>
          <p:nvPr/>
        </p:nvPicPr>
        <p:blipFill>
          <a:blip r:embed="rId3"/>
          <a:stretch/>
        </p:blipFill>
        <p:spPr>
          <a:xfrm>
            <a:off x="6248520" y="838080"/>
            <a:ext cx="2895480" cy="23623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4"/>
          <a:stretch/>
        </p:blipFill>
        <p:spPr>
          <a:xfrm>
            <a:off x="0" y="3809880"/>
            <a:ext cx="3124080" cy="23432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2" descr=""/>
          <p:cNvPicPr/>
          <p:nvPr/>
        </p:nvPicPr>
        <p:blipFill>
          <a:blip r:embed="rId5"/>
          <a:stretch/>
        </p:blipFill>
        <p:spPr>
          <a:xfrm>
            <a:off x="3124080" y="3809880"/>
            <a:ext cx="3124440" cy="23544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3" descr=""/>
          <p:cNvPicPr/>
          <p:nvPr/>
        </p:nvPicPr>
        <p:blipFill>
          <a:blip r:embed="rId6"/>
          <a:stretch/>
        </p:blipFill>
        <p:spPr>
          <a:xfrm>
            <a:off x="6248520" y="3809880"/>
            <a:ext cx="2895480" cy="2362320"/>
          </a:xfrm>
          <a:prstGeom prst="rect">
            <a:avLst/>
          </a:prstGeom>
          <a:ln w="0">
            <a:noFill/>
          </a:ln>
        </p:spPr>
      </p:pic>
      <p:sp>
        <p:nvSpPr>
          <p:cNvPr id="83" name="Text Box 14"/>
          <p:cNvSpPr/>
          <p:nvPr/>
        </p:nvSpPr>
        <p:spPr>
          <a:xfrm>
            <a:off x="6477120" y="640080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7 Wee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cental Mamm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0" y="48006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g. You – well if you’re female, anyway.  </a:t>
            </a:r>
            <a:r>
              <a:rPr b="1" lang="en-US" sz="2800" spc="-1" strike="noStrike" u="sng">
                <a:solidFill>
                  <a:srgbClr val="660066"/>
                </a:solidFill>
                <a:uFillTx/>
                <a:latin typeface="Arial"/>
              </a:rPr>
              <a:t>Internal Fertiliz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velopment of young to a highly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dvanc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tage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1676520" y="838080"/>
            <a:ext cx="601956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"/>
          <p:cNvPicPr/>
          <p:nvPr/>
        </p:nvPicPr>
        <p:blipFill>
          <a:blip r:embed="rId1"/>
          <a:stretch/>
        </p:blipFill>
        <p:spPr>
          <a:xfrm>
            <a:off x="1676520" y="762120"/>
            <a:ext cx="6629400" cy="56610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lacenta is K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6"/>
          <p:cNvSpPr/>
          <p:nvPr/>
        </p:nvSpPr>
        <p:spPr>
          <a:xfrm>
            <a:off x="228600" y="1905120"/>
            <a:ext cx="2362320" cy="685800"/>
          </a:xfrm>
          <a:prstGeom prst="rightArrow">
            <a:avLst>
              <a:gd name="adj1" fmla="val 50000"/>
              <a:gd name="adj2" fmla="val 8611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 Mammals, all the Major Body Systems are online and advanc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7"/>
          <p:cNvSpPr/>
          <p:nvPr/>
        </p:nvSpPr>
        <p:spPr>
          <a:xfrm>
            <a:off x="2200320" y="1257480"/>
            <a:ext cx="474336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9" descr="sunlit-dolphins"/>
          <p:cNvPicPr/>
          <p:nvPr/>
        </p:nvPicPr>
        <p:blipFill>
          <a:blip r:embed="rId1"/>
          <a:stretch/>
        </p:blipFill>
        <p:spPr>
          <a:xfrm>
            <a:off x="1752480" y="1523880"/>
            <a:ext cx="5791320" cy="530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keletal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027" descr="skeleton"/>
          <p:cNvPicPr/>
          <p:nvPr/>
        </p:nvPicPr>
        <p:blipFill>
          <a:blip r:embed="rId1"/>
          <a:stretch/>
        </p:blipFill>
        <p:spPr>
          <a:xfrm>
            <a:off x="1752480" y="914400"/>
            <a:ext cx="586764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scular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028" descr="Poster%20Muscular%20System"/>
          <p:cNvPicPr/>
          <p:nvPr/>
        </p:nvPicPr>
        <p:blipFill>
          <a:blip r:embed="rId1"/>
          <a:stretch/>
        </p:blipFill>
        <p:spPr>
          <a:xfrm>
            <a:off x="2362320" y="685800"/>
            <a:ext cx="474804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vanced Circulatory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torso"/>
          <p:cNvPicPr/>
          <p:nvPr/>
        </p:nvPicPr>
        <p:blipFill>
          <a:blip r:embed="rId1"/>
          <a:stretch/>
        </p:blipFill>
        <p:spPr>
          <a:xfrm>
            <a:off x="1828800" y="1143000"/>
            <a:ext cx="52894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rdates include the following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819160" y="1752120"/>
            <a:ext cx="38862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Repti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66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Amphibia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Bir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Arial"/>
              </a:rPr>
              <a:t>Mamm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piratory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9828"/>
          <p:cNvPicPr/>
          <p:nvPr/>
        </p:nvPicPr>
        <p:blipFill>
          <a:blip r:embed="rId1"/>
          <a:stretch/>
        </p:blipFill>
        <p:spPr>
          <a:xfrm>
            <a:off x="1447920" y="1523880"/>
            <a:ext cx="6400800" cy="51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AutoShape 3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nervous"/>
          <p:cNvPicPr/>
          <p:nvPr/>
        </p:nvPicPr>
        <p:blipFill>
          <a:blip r:embed="rId1"/>
          <a:stretch/>
        </p:blipFill>
        <p:spPr>
          <a:xfrm>
            <a:off x="1676520" y="1542960"/>
            <a:ext cx="5154480" cy="531504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6"/>
          <p:cNvSpPr/>
          <p:nvPr/>
        </p:nvSpPr>
        <p:spPr>
          <a:xfrm>
            <a:off x="1295280" y="304920"/>
            <a:ext cx="670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ervous System is online and advance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cretory System – ooo look, Kidney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2kidsys"/>
          <p:cNvPicPr/>
          <p:nvPr/>
        </p:nvPicPr>
        <p:blipFill>
          <a:blip r:embed="rId1"/>
          <a:stretch/>
        </p:blipFill>
        <p:spPr>
          <a:xfrm>
            <a:off x="304920" y="2057400"/>
            <a:ext cx="3770280" cy="38275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4BKD"/>
          <p:cNvPicPr/>
          <p:nvPr/>
        </p:nvPicPr>
        <p:blipFill>
          <a:blip r:embed="rId2"/>
          <a:stretch/>
        </p:blipFill>
        <p:spPr>
          <a:xfrm>
            <a:off x="4572000" y="2819520"/>
            <a:ext cx="4038480" cy="27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docrine System – Controls you Horm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endocrinebig"/>
          <p:cNvPicPr/>
          <p:nvPr/>
        </p:nvPicPr>
        <p:blipFill>
          <a:blip r:embed="rId1"/>
          <a:stretch/>
        </p:blipFill>
        <p:spPr>
          <a:xfrm>
            <a:off x="2514600" y="1371600"/>
            <a:ext cx="45403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ts of Mammals in the Simpsons </a:t>
            </a:r>
            <a:r>
              <a:rPr b="0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7" descr="pic08"/>
          <p:cNvPicPr/>
          <p:nvPr/>
        </p:nvPicPr>
        <p:blipFill>
          <a:blip r:embed="rId1"/>
          <a:stretch/>
        </p:blipFill>
        <p:spPr>
          <a:xfrm>
            <a:off x="1371600" y="914400"/>
            <a:ext cx="2590920" cy="26668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homer-king-homer"/>
          <p:cNvPicPr/>
          <p:nvPr/>
        </p:nvPicPr>
        <p:blipFill>
          <a:blip r:embed="rId2"/>
          <a:stretch/>
        </p:blipFill>
        <p:spPr>
          <a:xfrm>
            <a:off x="5334120" y="1219320"/>
            <a:ext cx="2743200" cy="20588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0" descr="simpsons183"/>
          <p:cNvPicPr/>
          <p:nvPr/>
        </p:nvPicPr>
        <p:blipFill>
          <a:blip r:embed="rId3"/>
          <a:stretch/>
        </p:blipFill>
        <p:spPr>
          <a:xfrm>
            <a:off x="1349280" y="3938760"/>
            <a:ext cx="2765520" cy="26859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7" descr="animals"/>
          <p:cNvPicPr/>
          <p:nvPr/>
        </p:nvPicPr>
        <p:blipFill>
          <a:blip r:embed="rId4"/>
          <a:stretch/>
        </p:blipFill>
        <p:spPr>
          <a:xfrm>
            <a:off x="4876920" y="3276720"/>
            <a:ext cx="32176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2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2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stly, we can Learn Important Lessons from Mammals like Hom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home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90920" y="1295280"/>
            <a:ext cx="40622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600200" y="0"/>
            <a:ext cx="556272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ord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43880" indent="-44784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ochord -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43880" indent="-44784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t-anal t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43880" indent="-44784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aryngeal gill sl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43880" indent="-44784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rsal hollow nerve c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34-02-Tunicate"/>
          <p:cNvPicPr/>
          <p:nvPr/>
        </p:nvPicPr>
        <p:blipFill>
          <a:blip r:embed="rId1"/>
          <a:srcRect l="26973" t="0" r="0" b="0"/>
          <a:stretch/>
        </p:blipFill>
        <p:spPr>
          <a:xfrm>
            <a:off x="1219320" y="2666880"/>
            <a:ext cx="7696080" cy="469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34-01-ChordateCharacters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556272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rdate Characteris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ills in Humans! – check it 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1143000" y="824040"/>
            <a:ext cx="6858000" cy="59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nicates are Chordate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34-02-Tunicate"/>
          <p:cNvPicPr/>
          <p:nvPr/>
        </p:nvPicPr>
        <p:blipFill>
          <a:blip r:embed="rId1"/>
          <a:srcRect l="0" t="0" r="73969" b="0"/>
          <a:stretch/>
        </p:blipFill>
        <p:spPr>
          <a:xfrm>
            <a:off x="4572000" y="1219320"/>
            <a:ext cx="4343400" cy="541008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7"/>
          <p:cNvSpPr/>
          <p:nvPr/>
        </p:nvSpPr>
        <p:spPr>
          <a:xfrm>
            <a:off x="0" y="1371600"/>
            <a:ext cx="457200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ea Squi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onge like - filter fee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rva free swimming,  bilateral with all Chordate tra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228240"/>
            <a:ext cx="9144000" cy="188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ncets (a primitive fish like organism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osely resembles the idealized chord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otochord, dorsal nerve cord, numerous gill slits, and post-anal tail all persist in the adul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457200" y="6553080"/>
            <a:ext cx="6781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02 Pearson Education, Inc., publishing as Benjamin Cumm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"/>
          <p:cNvPicPr/>
          <p:nvPr/>
        </p:nvPicPr>
        <p:blipFill>
          <a:blip r:embed="rId1"/>
          <a:srcRect l="0" t="0" r="0" b="9191"/>
          <a:stretch/>
        </p:blipFill>
        <p:spPr>
          <a:xfrm>
            <a:off x="228600" y="2209680"/>
            <a:ext cx="4809960" cy="46404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"/>
          <p:cNvPicPr/>
          <p:nvPr/>
        </p:nvPicPr>
        <p:blipFill>
          <a:blip r:embed="rId2"/>
          <a:srcRect l="0" t="1713" r="0" b="0"/>
          <a:stretch/>
        </p:blipFill>
        <p:spPr>
          <a:xfrm>
            <a:off x="5029200" y="2286000"/>
            <a:ext cx="38527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240" y="274680"/>
            <a:ext cx="8458200" cy="490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Ontogency Recapituates Evolution”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Evolution Playing out in Fetus…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all these Chordates (birds, mammals, reptiles, fish, ha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rikingly similar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ryonic Development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2T06:29:48Z</dcterms:created>
  <dc:creator>Jerry</dc:creator>
  <dc:description/>
  <dc:language>en-US</dc:language>
  <cp:lastModifiedBy>RomaK</cp:lastModifiedBy>
  <dcterms:modified xsi:type="dcterms:W3CDTF">2015-09-04T10:52:21Z</dcterms:modified>
  <cp:revision>50</cp:revision>
  <dc:subject/>
  <dc:title>Emergence of the Animal Kingdom</dc:title>
</cp:coreProperties>
</file>